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C91-EAB3-4F15-8B74-C7DE830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7FB-A638-484D-BFD6-93C39A47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E2A-6876-4F95-8D61-EFB24A9B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10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524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610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524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8D3-73DB-41FC-AD77-5B1F2B30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702-B4FC-4A21-A2EA-428F886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8E2-1EBF-4CC2-A6A1-A5C9C9C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EE3-1A86-4842-80B6-A2D29583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2A6-B0EC-4A96-8711-5D5D6015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004-2BE5-427D-A380-4FF362D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9B7-E4F2-4642-BDB0-54F5BE44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94E-ECD0-48F8-BE7A-5745658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CA9-EA6D-438D-8741-8C809A2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3D91-36F1-482C-83E9-805A019B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09560" y="1612440"/>
            <a:ext cx="69328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Leadership Contingency Theo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Leader-Member Exchange (LM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- Term 2, Week 3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8880" y="0"/>
            <a:ext cx="634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700"/>
                </a:solidFill>
                <a:latin typeface="Arial"/>
              </a:rPr>
              <a:t>Leadership Self-Assessment:</a:t>
            </a:r>
            <a:br>
              <a:rPr sz="28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east Preferred Co-Worker (LPC)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8280" y="2247840"/>
            <a:ext cx="14605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Pleas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Rejec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Help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Unenthusias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D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C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Suppor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B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Quarrels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Self-Ass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Glo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27840" y="2247840"/>
            <a:ext cx="14209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Unpleas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Unfrien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Acce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Frustr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Enthusias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Rela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Cl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W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Un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Hos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Inter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Harmoni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Hesi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In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Cheer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Guar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47840"/>
            <a:ext cx="308988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1      2      3      4      5      6      7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  <a:ea typeface="Arial"/>
              </a:rPr>
              <a:t>8      7      6      5      4      3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81360" y="1289160"/>
            <a:ext cx="6808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Instructions</a:t>
            </a: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: Think of the person with whom you can work least well. It does not have to </a:t>
            </a:r>
            <a:br>
              <a:rPr sz="1200"/>
            </a:b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be the person you like least well, but should be the person with whom you had the most difficulty in getting a job done. Describe this person by circling a number for each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67040" y="2176560"/>
            <a:ext cx="6400800" cy="33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3320" y="5678640"/>
            <a:ext cx="67374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Your LPC score is the sum of the answers to all items. A score greater than 76 indicates </a:t>
            </a:r>
            <a:br>
              <a:rPr sz="1200"/>
            </a:b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cc9700"/>
                </a:solidFill>
                <a:latin typeface="Arial"/>
              </a:rPr>
              <a:t>relationship orientation</a:t>
            </a: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and a score of less than 62 indicates a</a:t>
            </a:r>
            <a:r>
              <a:rPr b="1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cc9700"/>
                </a:solidFill>
                <a:latin typeface="Arial"/>
              </a:rPr>
              <a:t>task orientation</a:t>
            </a: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. A score of 58 to 63 places you in the intermediate range (</a:t>
            </a:r>
            <a:r>
              <a:rPr b="0" i="1" lang="en-GB" sz="1200" spc="-1" strike="noStrike">
                <a:solidFill>
                  <a:srgbClr val="333399"/>
                </a:solidFill>
                <a:latin typeface="Arial"/>
              </a:rPr>
              <a:t>socio-independent</a:t>
            </a: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371600" y="1339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rait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  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3701880"/>
            <a:ext cx="2101680" cy="107496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711600"/>
            <a:ext cx="2101680" cy="103968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3854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Work group</a:t>
            </a:r>
            <a:br>
              <a:rPr sz="2400"/>
            </a:br>
            <a:r>
              <a:rPr b="1" lang="de-D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006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L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230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1941480"/>
            <a:ext cx="2210040" cy="118260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19494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LMX </a:t>
            </a:r>
            <a:br>
              <a:rPr sz="2000"/>
            </a:br>
            <a:r>
              <a:rPr b="1" lang="en-GB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Position </a:t>
            </a:r>
            <a:r>
              <a:rPr b="1" lang="en-GB" sz="2000" spc="-1" strike="noStrike">
                <a:solidFill>
                  <a:srgbClr val="5f5f5f"/>
                </a:solidFill>
                <a:latin typeface="Times New Roman"/>
              </a:rPr>
              <a:t>power</a:t>
            </a:r>
            <a:r>
              <a:rPr b="0" lang="en-GB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Task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313056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4933800"/>
            <a:ext cx="471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just situational characteristics (favorableness) to leader LPC 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edler’s Contingency Model of Lead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63760" y="1743120"/>
            <a:ext cx="7527960" cy="493560"/>
          </a:xfrm>
          <a:prstGeom prst="rect">
            <a:avLst/>
          </a:prstGeom>
          <a:solidFill>
            <a:srgbClr val="cdcd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3120" y="2238480"/>
            <a:ext cx="7520040" cy="49680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71680" y="2735280"/>
            <a:ext cx="7521480" cy="49860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63760" y="3235320"/>
            <a:ext cx="7527960" cy="493560"/>
          </a:xfrm>
          <a:prstGeom prst="rect">
            <a:avLst/>
          </a:prstGeom>
          <a:solidFill>
            <a:srgbClr val="cdcd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63760" y="3732120"/>
            <a:ext cx="7527960" cy="493920"/>
          </a:xfrm>
          <a:prstGeom prst="rect">
            <a:avLst/>
          </a:prstGeom>
          <a:solidFill>
            <a:srgbClr val="cdcd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63760" y="4229280"/>
            <a:ext cx="7527960" cy="1133280"/>
          </a:xfrm>
          <a:prstGeom prst="rect">
            <a:avLst/>
          </a:prstGeom>
          <a:solidFill>
            <a:srgbClr val="cdcd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4760" y="1752480"/>
            <a:ext cx="0" cy="361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52640" y="2309760"/>
            <a:ext cx="82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Oc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41600" y="2727360"/>
            <a:ext cx="1510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eader-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61680" y="3322800"/>
            <a:ext cx="160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Task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94440" y="383688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Position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4920" y="4245120"/>
            <a:ext cx="163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Leader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10720" y="1830240"/>
            <a:ext cx="455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Situation Classification and LPC Leader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60720" y="226692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30680" y="226692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64280" y="226692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5120" y="226692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73800" y="226692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61400" y="226692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15160" y="2266920"/>
            <a:ext cx="0" cy="196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7400" y="2843280"/>
            <a:ext cx="71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6560" y="282420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3120" y="2735280"/>
            <a:ext cx="7520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30680" y="3243240"/>
            <a:ext cx="0" cy="98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3800" y="3260880"/>
            <a:ext cx="0" cy="98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7320" y="3344760"/>
            <a:ext cx="108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5800" y="3344760"/>
            <a:ext cx="130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nstruct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70320" y="3830760"/>
            <a:ext cx="523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5960" y="3836880"/>
            <a:ext cx="48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50160" y="3830760"/>
            <a:ext cx="523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73760" y="3830760"/>
            <a:ext cx="48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97440" y="374004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73520" y="3830760"/>
            <a:ext cx="523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42040" y="3813120"/>
            <a:ext cx="48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64280" y="3759120"/>
            <a:ext cx="0" cy="4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3840" y="3759120"/>
            <a:ext cx="0" cy="4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3759120"/>
            <a:ext cx="0" cy="4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34280" y="3819600"/>
            <a:ext cx="523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39160" y="3836880"/>
            <a:ext cx="48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74640" y="3344760"/>
            <a:ext cx="108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25280" y="3344760"/>
            <a:ext cx="130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nstruct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73920" y="4267080"/>
            <a:ext cx="17852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ask-Motiv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Low L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cio-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Medium L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76680" y="4516560"/>
            <a:ext cx="214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-Motiv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High L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64280" y="4237200"/>
            <a:ext cx="0" cy="112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4255920"/>
            <a:ext cx="0" cy="11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39440" y="4311720"/>
            <a:ext cx="1015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ask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otiv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Low L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3120" y="2255760"/>
            <a:ext cx="750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7480" y="23209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45760" y="232092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64600" y="232092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2680" y="232092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5600" y="2320920"/>
            <a:ext cx="40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25520" y="2320920"/>
            <a:ext cx="40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2520" y="2320920"/>
            <a:ext cx="46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1520" y="2320920"/>
            <a:ext cx="52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1880" y="5445000"/>
            <a:ext cx="71118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hoose leaders with LPC that fits to situational favorable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commendations from Fiedler’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0144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ersey &amp; Blanchard’s Situational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1320" y="1820880"/>
            <a:ext cx="5931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situational theory that focuses on the match between a leader’s behaviour and the followers’ characteristics, the latter ar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combination of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bility, skill (high/lo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illingness, commitment (high/low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hich determine the followers “readiness” for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erent types of leadership behaviours, nam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directing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 - coaching </a:t>
            </a:r>
            <a:br>
              <a:rPr sz="2000"/>
            </a:b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- supporting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 - emp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496200" y="3741840"/>
            <a:ext cx="2101680" cy="99828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62280" y="3741840"/>
            <a:ext cx="2101680" cy="99036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72160" y="38941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Work group</a:t>
            </a:r>
            <a:br>
              <a:rPr sz="2000"/>
            </a:br>
            <a:r>
              <a:rPr b="1" lang="de-DE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38600" y="38178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Supportive</a:t>
            </a:r>
            <a:br>
              <a:rPr sz="2000"/>
            </a:br>
            <a:r>
              <a:rPr b="1" lang="en-GB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96000" y="4270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14760" y="1836720"/>
            <a:ext cx="1990800" cy="144792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91080" y="1913040"/>
            <a:ext cx="18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Subordinate </a:t>
            </a:r>
            <a:br>
              <a:rPr sz="1800"/>
            </a:br>
            <a:r>
              <a:rPr b="1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Readiness Level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Ability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Willing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1800" y="328464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84400" y="4559400"/>
            <a:ext cx="4633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djust leadership behavior (directing,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aching, supporting, empowering) to followers’ characteristics – readi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95760" y="316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47040" y="31640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ffecti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19600" y="131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ersey &amp; Blanchard’s Situational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614600" y="1900080"/>
            <a:ext cx="7326360" cy="478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9280" y="2359080"/>
            <a:ext cx="7323120" cy="4604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2520" y="2819520"/>
            <a:ext cx="7319880" cy="460080"/>
          </a:xfrm>
          <a:prstGeom prst="rect">
            <a:avLst/>
          </a:prstGeom>
          <a:solidFill>
            <a:srgbClr val="cdcd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20720" y="3281400"/>
            <a:ext cx="7320240" cy="458640"/>
          </a:xfrm>
          <a:prstGeom prst="rect">
            <a:avLst/>
          </a:prstGeom>
          <a:solidFill>
            <a:srgbClr val="cdcd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20720" y="3741840"/>
            <a:ext cx="7320240" cy="458640"/>
          </a:xfrm>
          <a:prstGeom prst="rect">
            <a:avLst/>
          </a:prstGeom>
          <a:solidFill>
            <a:srgbClr val="cdcd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20720" y="4202280"/>
            <a:ext cx="7320240" cy="688680"/>
          </a:xfrm>
          <a:prstGeom prst="rect">
            <a:avLst/>
          </a:prstGeom>
          <a:solidFill>
            <a:srgbClr val="cdcd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78120" y="1908000"/>
            <a:ext cx="0" cy="295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33560" y="194796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ubord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evelop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40680" y="281160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Low   Competence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High 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21240" y="3284640"/>
            <a:ext cx="1712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Some Competence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Low  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4840" y="3760920"/>
            <a:ext cx="1754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High  Competence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Variable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45360" y="4254480"/>
            <a:ext cx="1676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High  Competence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High 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22400" y="1981080"/>
            <a:ext cx="189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Leader Behavi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7920" y="2386080"/>
            <a:ext cx="0" cy="2522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0480" y="2421000"/>
            <a:ext cx="151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ppor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61800" y="2405160"/>
            <a:ext cx="134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ir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627200" y="2808360"/>
            <a:ext cx="727380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81720" y="1941480"/>
            <a:ext cx="0" cy="2967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68240" y="332892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30160" y="4316400"/>
            <a:ext cx="54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68240" y="379080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98440" y="29242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56160" y="2376360"/>
            <a:ext cx="3625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85520" y="4349880"/>
            <a:ext cx="54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15000" y="3368520"/>
            <a:ext cx="99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62440" y="381168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p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00520" y="4321080"/>
            <a:ext cx="125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mpow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69680" y="2868480"/>
            <a:ext cx="54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95240" y="3840120"/>
            <a:ext cx="54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7960" y="291780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95240" y="334656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44080" y="2068560"/>
            <a:ext cx="1134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ecommendations from Hersey &amp; Blanchard’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ath Goal Theory is a contingency theory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at addresses a leader’s interaction with individual fol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term “path-goal” is derived from th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umption that effective leaders clarify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ath to help their followers get from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they are to the achievement of their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k goals and make the journey along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ath easier by reducing road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ath Goal Theory (Robert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ath Goal Theory (Robert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use identified four types of leadership behavi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rectiv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sets goals and gives guid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pportiv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shows concern for followers nee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ipativ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consults before decision making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hievement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sets challenging goals and expect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ientate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followers to perform at highest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hese should be enacted by taking into account the nature of subordinates and their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470640" y="3666960"/>
            <a:ext cx="1944720" cy="110340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17880" y="3666960"/>
            <a:ext cx="1944720" cy="165420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41920" y="3803760"/>
            <a:ext cx="17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ndividual &amp;</a:t>
            </a:r>
            <a:br>
              <a:rPr sz="1800"/>
            </a:br>
            <a:r>
              <a:rPr b="1" lang="de-DE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roup work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87720" y="3800520"/>
            <a:ext cx="18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Directive </a:t>
            </a:r>
            <a:br>
              <a:rPr sz="1800"/>
            </a:br>
            <a:r>
              <a:rPr b="1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Supportive </a:t>
            </a:r>
            <a:br>
              <a:rPr sz="1800"/>
            </a:br>
            <a:r>
              <a:rPr b="1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Participative  </a:t>
            </a:r>
            <a:br>
              <a:rPr sz="1800"/>
            </a:br>
            <a:r>
              <a:rPr b="1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Achievement </a:t>
            </a:r>
            <a:br>
              <a:rPr sz="1800"/>
            </a:br>
            <a:r>
              <a:rPr b="1" lang="en-GB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91040" y="4145040"/>
            <a:ext cx="147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16320" y="2011320"/>
            <a:ext cx="2889360" cy="1069920"/>
          </a:xfrm>
          <a:prstGeom prst="rect">
            <a:avLst/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86160" y="2079720"/>
            <a:ext cx="27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nvironment: </a:t>
            </a:r>
            <a:r>
              <a:rPr b="0" lang="de-DE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task, </a:t>
            </a:r>
            <a:r>
              <a:rPr b="0" lang="de-DE" sz="1800" spc="-1" strike="noStrike">
                <a:solidFill>
                  <a:srgbClr val="5f5f5f"/>
                </a:solidFill>
                <a:latin typeface="Times New Roman"/>
              </a:rPr>
              <a:t>work group autonomy</a:t>
            </a:r>
            <a:r>
              <a:rPr b="0" lang="de-DE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...</a:t>
            </a:r>
            <a:br>
              <a:rPr sz="1800"/>
            </a:br>
            <a:r>
              <a:rPr b="1" lang="de-DE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Suborindate:</a:t>
            </a:r>
            <a:r>
              <a:rPr b="0" lang="de-DE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experienc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26080" y="3114720"/>
            <a:ext cx="0" cy="103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98760" y="518652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larifying path to better goal attainment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and removing barri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ath Goal Theory (Robert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57560" y="315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8160" y="317196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ffecti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00680" y="1438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2200" y="1855800"/>
            <a:ext cx="7254720" cy="37018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58960" y="2517840"/>
            <a:ext cx="724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19360" y="2019240"/>
            <a:ext cx="211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Leader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44240" y="2043000"/>
            <a:ext cx="344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Predicted Motivational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0520" y="1871640"/>
            <a:ext cx="0" cy="369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18360" y="274320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Dir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32440" y="2558880"/>
            <a:ext cx="4478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duces role ambiguity; increases follower belie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at effort will result in good performanc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erformance will be rewar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32800" y="3317760"/>
            <a:ext cx="4406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s self-confidence; increases th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alue of job-related eff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58960" y="3260880"/>
            <a:ext cx="7242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31720" y="3882960"/>
            <a:ext cx="47401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duces ambiguity, clarifies expectations, incr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nsistency of subordinate and organizational goal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s involvement with and commitmen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go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74800" y="3841920"/>
            <a:ext cx="7242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33160" y="4838760"/>
            <a:ext cx="4591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s subordinate confidence and the pers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alue of goal-directed eff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58960" y="4842000"/>
            <a:ext cx="7242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18360" y="337356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Suppor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19080" y="4195800"/>
            <a:ext cx="139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Particip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19440" y="4923000"/>
            <a:ext cx="151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Achievemen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edicted Effects of Path Goal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66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0920" y="1628280"/>
            <a:ext cx="68058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fter this session participants should be able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- Describe and discuss concepts of contingency theories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of leadership &amp; leader member exchange theory (LM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- Identify the strength and limitations of contingency and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LMX theories of leader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se Fiedler’s, House’s and Blanchard’s models to predict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the effectiveness of leadership * situation contin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xplain the relationships described by these models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between leadership styles/behaviours, situations, and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followers’ competence, commitment, and mo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se LMX to describe (and prescribe) how leader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follower-relations (should) develop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197000"/>
            <a:ext cx="662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70040" y="1455840"/>
            <a:ext cx="7248600" cy="45273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74720" y="2097000"/>
            <a:ext cx="722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18640" y="1517760"/>
            <a:ext cx="2009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Leader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5680" y="1585800"/>
            <a:ext cx="284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Specific Leader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9280" y="1465200"/>
            <a:ext cx="0" cy="451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30520" y="2122560"/>
            <a:ext cx="100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rify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40040" y="2097000"/>
            <a:ext cx="5237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arifying performance goals, standards, and means to achieve them Clarifying whom subordinates should respon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ing contingency rewards and pun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40040" y="2895480"/>
            <a:ext cx="4980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ing with subordinates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corporating subordinate opinions in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74720" y="2895480"/>
            <a:ext cx="722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40040" y="3444840"/>
            <a:ext cx="5116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tting high goals and seeking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mphasizing excellence and showing confidence in subordi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essing pride i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0560" y="3381480"/>
            <a:ext cx="722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36800" y="4168800"/>
            <a:ext cx="49834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lanning, scheduling, and organiz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subordinates’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uiding, coaching, counseling, and giving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ing roadblocks and 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viding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legating authority to subordi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4720" y="4102200"/>
            <a:ext cx="722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29080" y="2967120"/>
            <a:ext cx="124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rticip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30520" y="3452760"/>
            <a:ext cx="135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chievemen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Ori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28000" y="4221000"/>
            <a:ext cx="162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Work Facil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evised Path Goal Theory Leader Behavi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31240" y="5465880"/>
            <a:ext cx="111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uppor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36800" y="5451480"/>
            <a:ext cx="5042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reating a friendly and psychologically supportiv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isplaying concern for subordinates’ wel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87680" y="5383080"/>
            <a:ext cx="7227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70040" y="1455840"/>
            <a:ext cx="7248600" cy="376560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4720" y="2097000"/>
            <a:ext cx="722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18640" y="1517760"/>
            <a:ext cx="2009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Leader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55680" y="1585800"/>
            <a:ext cx="284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Specific Leader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83160" y="1465200"/>
            <a:ext cx="0" cy="451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74720" y="3002040"/>
            <a:ext cx="722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74720" y="4441680"/>
            <a:ext cx="722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evised Path Goal Theory Leader Behaviour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87680" y="5383080"/>
            <a:ext cx="7227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62360" y="2130480"/>
            <a:ext cx="5715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solving disputes and facilitating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iving minority views a h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mphasizing collaboration and team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couraging close relationships among team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27280" y="2173320"/>
            <a:ext cx="1126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Facil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26920" y="3133800"/>
            <a:ext cx="1869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roup-Ori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ecision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62360" y="3032280"/>
            <a:ext cx="5715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sing problems to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arching for mutual interests in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couraging participation by all group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arching for and displaying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laying evaluation until all alternativ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couraging evaluation of al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bining advantages of alternatives to create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27640" y="4572000"/>
            <a:ext cx="178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ed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62360" y="4508640"/>
            <a:ext cx="5713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couraging subordinates to behave as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tting an example for subordinates to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0040" y="1455840"/>
            <a:ext cx="7248600" cy="45273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4720" y="2097000"/>
            <a:ext cx="722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18640" y="1517760"/>
            <a:ext cx="2009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Leader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55680" y="1585800"/>
            <a:ext cx="284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Specific Leader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99000" y="1442880"/>
            <a:ext cx="0" cy="453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74720" y="3868560"/>
            <a:ext cx="722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evised Path Goal Theory Leader Behaviour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830240" y="2328840"/>
            <a:ext cx="1606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epresenting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 Net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38680" y="2184480"/>
            <a:ext cx="4389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presenting the group in a favorabl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ing the importance of the group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intaining positive relations with influential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eing an effective trading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eping in touch with network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articipating in social functions and cerem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oing favor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owing positive regard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46600" y="3941640"/>
            <a:ext cx="5064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rticulating a vision of a better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isplaying a passion for th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isplaying self-sacrifice in the interest of th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monstrating self-confidence, confidence in the attainment of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vision, determination &amp; persistence in the interest of th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lectively arousing non-conscious motives of fol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aking extraordinary personal and organizational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ing high performanc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ing symbolic behaviors to emphasiz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viding frequent positive evaluation of fol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27360" y="4264200"/>
            <a:ext cx="120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aris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1280" y="304560"/>
            <a:ext cx="64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mitations of Contingency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65160" y="2049120"/>
            <a:ext cx="697104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 include many situational variables, which make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m difficult to test empi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st research provided only a partial test of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 lack accurate measures (e.g., L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times too complex to be practically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icit assumption of one best way for managers/ leaders to perform in given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0144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nderstanding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31280" y="2664000"/>
            <a:ext cx="11635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62280" y="2664000"/>
            <a:ext cx="12031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tra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&amp;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38940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02040" y="2664000"/>
            <a:ext cx="1094040" cy="75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Influ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96080" y="301320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895720" y="313056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38520" y="4135320"/>
            <a:ext cx="1616040" cy="755640"/>
          </a:xfrm>
          <a:prstGeom prst="rect">
            <a:avLst/>
          </a:prstGeom>
          <a:solidFill>
            <a:srgbClr val="d1cc00"/>
          </a:solidFill>
          <a:ln w="9360">
            <a:solidFill>
              <a:srgbClr val="d1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itu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7392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Foll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6396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9468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06920" y="3002040"/>
            <a:ext cx="254160" cy="96840"/>
            <a:chOff x="4606920" y="3002040"/>
            <a:chExt cx="254160" cy="96840"/>
          </a:xfrm>
        </p:grpSpPr>
        <p:sp>
          <p:nvSpPr>
            <p:cNvPr id="419" name=""/>
            <p:cNvSpPr/>
            <p:nvPr/>
          </p:nvSpPr>
          <p:spPr>
            <a:xfrm>
              <a:off x="460692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60692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811840" y="3002040"/>
            <a:ext cx="254160" cy="96840"/>
            <a:chOff x="5811840" y="3002040"/>
            <a:chExt cx="254160" cy="96840"/>
          </a:xfrm>
        </p:grpSpPr>
        <p:sp>
          <p:nvSpPr>
            <p:cNvPr id="422" name=""/>
            <p:cNvSpPr/>
            <p:nvPr/>
          </p:nvSpPr>
          <p:spPr>
            <a:xfrm>
              <a:off x="581184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81184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15636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70612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9000" y="3510000"/>
            <a:ext cx="884160" cy="6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05720" y="1360440"/>
            <a:ext cx="113184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Degree of Infl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Unit’s/Org.’s </a:t>
            </a:r>
            <a:br>
              <a:rPr sz="1000"/>
            </a:b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. Promot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ollowers’ skill, satisfaction,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62760" y="1360440"/>
            <a:ext cx="12063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mmedi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sis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Goal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60600" y="1360440"/>
            <a:ext cx="131760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itiating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articip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haris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aissez f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47880" y="1360440"/>
            <a:ext cx="12891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elf-conf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tress 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tegrity/Hone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Need for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motional m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94400" y="1360440"/>
            <a:ext cx="122868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Leader-Member</a:t>
            </a:r>
            <a:br>
              <a:rPr sz="1000"/>
            </a:b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Relations (LM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Transform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Transac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Implicit Theories of Leadership </a:t>
            </a:r>
            <a:br>
              <a:rPr sz="1000"/>
            </a:b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3440" y="4943520"/>
            <a:ext cx="184320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eader’s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ocio-demo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ducation /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Occupational soci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329520" y="4943520"/>
            <a:ext cx="184284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ollower’s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ocio-demo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ducation /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Occupational soci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2600" y="4943520"/>
            <a:ext cx="182592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Ta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Unit /Org. character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.g., organisational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84240" y="3627360"/>
            <a:ext cx="1379520" cy="1737360"/>
            <a:chOff x="984240" y="3627360"/>
            <a:chExt cx="1379520" cy="1737360"/>
          </a:xfrm>
        </p:grpSpPr>
        <p:sp>
          <p:nvSpPr>
            <p:cNvPr id="437" name=""/>
            <p:cNvSpPr/>
            <p:nvPr/>
          </p:nvSpPr>
          <p:spPr>
            <a:xfrm>
              <a:off x="984240" y="3830760"/>
              <a:ext cx="1319400" cy="153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Contingency</a:t>
              </a:r>
              <a:br>
                <a:rPr sz="1000"/>
              </a:b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Theorie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Fiedler’s LPC* Si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Situational Leadersh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House’s Path </a:t>
              </a:r>
              <a:br>
                <a:rPr sz="1000"/>
              </a:b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Goal The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840" y="3627360"/>
              <a:ext cx="88920" cy="171612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44640 h 1716120"/>
                <a:gd name="textAreaBottom" fmla="*/ 1671480 h 17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30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610160" y="1314360"/>
            <a:ext cx="1330200" cy="4604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638000" y="1612800"/>
            <a:ext cx="6729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eader member exchange theory describes how a leader and an individual subordinate develop a relationship as they influence each other and negotiate the subordinate's role in the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eaders develop a separate exchange relationship with each individual subordinate as the two parties mutually define the role of the subordinate.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eader Member Exchange (</a:t>
            </a:r>
            <a:r>
              <a:rPr b="1" lang="en-GB" sz="2000" spc="-1" strike="noStrike">
                <a:solidFill>
                  <a:srgbClr val="333399"/>
                </a:solidFill>
                <a:latin typeface="Matisse ITC"/>
              </a:rPr>
              <a:t>LMX) -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eader-Member Exchan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8680" y="1673280"/>
            <a:ext cx="1773000" cy="14652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dcd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dcd"/>
                </a:solidFill>
                <a:latin typeface="Arial"/>
              </a:rPr>
              <a:t>Compat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dcd"/>
                </a:solidFill>
                <a:latin typeface="Arial"/>
              </a:rPr>
              <a:t>and/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dcd"/>
                </a:solidFill>
                <a:latin typeface="Arial"/>
              </a:rPr>
              <a:t>Sub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dcd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64280" y="2055960"/>
            <a:ext cx="1498320" cy="6998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dcd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79720" y="2757600"/>
            <a:ext cx="3935160" cy="1282680"/>
          </a:xfrm>
          <a:custGeom>
            <a:avLst/>
            <a:gdLst/>
            <a:ahLst/>
            <a:rect l="l" t="t" r="r" b="b"/>
            <a:pathLst>
              <a:path w="2766" h="964">
                <a:moveTo>
                  <a:pt x="2765" y="0"/>
                </a:moveTo>
                <a:lnTo>
                  <a:pt x="2765" y="481"/>
                </a:lnTo>
                <a:lnTo>
                  <a:pt x="0" y="481"/>
                </a:lnTo>
                <a:lnTo>
                  <a:pt x="0" y="963"/>
                </a:lnTo>
              </a:path>
            </a:pathLst>
          </a:custGeom>
          <a:noFill/>
          <a:ln cap="rnd" w="38160">
            <a:solidFill>
              <a:srgbClr val="33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40000" y="2757600"/>
            <a:ext cx="2774880" cy="1282680"/>
          </a:xfrm>
          <a:custGeom>
            <a:avLst/>
            <a:gdLst/>
            <a:ahLst/>
            <a:rect l="l" t="t" r="r" b="b"/>
            <a:pathLst>
              <a:path w="1950" h="964">
                <a:moveTo>
                  <a:pt x="1949" y="0"/>
                </a:moveTo>
                <a:lnTo>
                  <a:pt x="1949" y="481"/>
                </a:lnTo>
                <a:lnTo>
                  <a:pt x="0" y="481"/>
                </a:lnTo>
                <a:lnTo>
                  <a:pt x="0" y="963"/>
                </a:lnTo>
              </a:path>
            </a:pathLst>
          </a:custGeom>
          <a:noFill/>
          <a:ln cap="rnd" w="38160">
            <a:solidFill>
              <a:srgbClr val="33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43480" y="2406600"/>
            <a:ext cx="820800" cy="1800"/>
          </a:xfrm>
          <a:custGeom>
            <a:avLst/>
            <a:gdLst/>
            <a:ahLst/>
            <a:rect l="l" t="t" r="r" b="b"/>
            <a:pathLst>
              <a:path w="577" h="1">
                <a:moveTo>
                  <a:pt x="0" y="0"/>
                </a:moveTo>
                <a:lnTo>
                  <a:pt x="576" y="0"/>
                </a:lnTo>
              </a:path>
            </a:pathLst>
          </a:custGeom>
          <a:noFill/>
          <a:ln cap="rnd" w="38160">
            <a:solidFill>
              <a:srgbClr val="3333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08040" y="4035600"/>
            <a:ext cx="3479760" cy="12747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01920" y="4038480"/>
            <a:ext cx="1157400" cy="57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Sub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61480" y="4038480"/>
            <a:ext cx="1157400" cy="57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Sub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27520" y="4038480"/>
            <a:ext cx="1157400" cy="57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Sub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4520" y="4849920"/>
            <a:ext cx="1259640" cy="397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dcdcd"/>
                </a:solidFill>
                <a:latin typeface="Arial"/>
              </a:rPr>
              <a:t>In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00720" y="4035600"/>
            <a:ext cx="3479760" cy="12747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4600" y="4038480"/>
            <a:ext cx="1157400" cy="57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Sub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54160" y="4038480"/>
            <a:ext cx="1157400" cy="57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Sub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20200" y="4038480"/>
            <a:ext cx="1157400" cy="57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Sub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dcdcd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69920" y="4849920"/>
            <a:ext cx="1472760" cy="397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dcdcd"/>
                </a:solidFill>
                <a:latin typeface="Arial"/>
              </a:rPr>
              <a:t>Out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64400" y="2406600"/>
            <a:ext cx="369720" cy="1633680"/>
          </a:xfrm>
          <a:custGeom>
            <a:avLst/>
            <a:gdLst/>
            <a:ahLst/>
            <a:rect l="l" t="t" r="r" b="b"/>
            <a:pathLst>
              <a:path w="260" h="1228">
                <a:moveTo>
                  <a:pt x="0" y="0"/>
                </a:moveTo>
                <a:lnTo>
                  <a:pt x="259" y="0"/>
                </a:lnTo>
                <a:lnTo>
                  <a:pt x="259" y="1227"/>
                </a:lnTo>
              </a:path>
            </a:pathLst>
          </a:custGeom>
          <a:noFill/>
          <a:ln cap="rnd"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72040" y="3592440"/>
            <a:ext cx="2327400" cy="447840"/>
          </a:xfrm>
          <a:custGeom>
            <a:avLst/>
            <a:gdLst/>
            <a:ahLst/>
            <a:rect l="l" t="t" r="r" b="b"/>
            <a:pathLst>
              <a:path w="1636" h="337">
                <a:moveTo>
                  <a:pt x="0" y="335"/>
                </a:moveTo>
                <a:lnTo>
                  <a:pt x="0" y="0"/>
                </a:lnTo>
                <a:lnTo>
                  <a:pt x="1635" y="0"/>
                </a:lnTo>
                <a:lnTo>
                  <a:pt x="1635" y="336"/>
                </a:lnTo>
              </a:path>
            </a:pathLst>
          </a:custGeom>
          <a:noFill/>
          <a:ln cap="rnd" w="3816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82840" y="339552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 Narrow"/>
              </a:rPr>
              <a:t>Tru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30760" y="3400560"/>
            <a:ext cx="1712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 Narrow"/>
              </a:rPr>
              <a:t>High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30240" y="2884320"/>
            <a:ext cx="170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 Narrow"/>
              </a:rPr>
              <a:t>Form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684080" y="756720"/>
            <a:ext cx="69786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xchange relationships take one of two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ost leaders establish a special exchange relationship with a small number of trusted subordinates, the ‘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n-group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’, who function as assistants, lieutenants, or advisers 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relatively high level of mutual influence, the relationship is transformational in nature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exchange relationship with the remaining subordinates is substantially different. They form the ‘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out-group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’ 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relatively low level of mutual influence, the relationship is more transactional in nature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395360" y="1143000"/>
            <a:ext cx="6902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basis for establishing a deeper exchange relationship with in-group subordinates is the leader’s control over outcomes that are desirable to the subordinates, e.g.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ssignments to interesting and desirable task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elegation of greater responsibility and authori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e sharing of information, participation in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angible rewards (pay increase, bigger office, personal support)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pproval, and facilitation of the subordinate’s care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817280" y="1662120"/>
            <a:ext cx="68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favourable relationship is more likel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e subordinate is perceived to be competent and depend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e subordinates values and attitudes are similar to those of the l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favourable exchange relationship is correlat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e supportive behaviour by the leader toward the subordina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e consultation delegation and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ess close monitoring, and less domination of convers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60480" y="54288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eterminants and consequences of L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66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8720" y="2044440"/>
            <a:ext cx="662472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•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eadership * Situation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•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eader-Foll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•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•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eyond L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1197000"/>
            <a:ext cx="662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879560" y="1600200"/>
            <a:ext cx="682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favourable exchange relationship is correlat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e organizational citizenship behaviour by the subordina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e open communication with the lea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less use of pressure tactics such as threat and demands, to influence the l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favourable exchange relationship is correlat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higher job satisfa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tronger organizational commitm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better subordinat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60480" y="542880"/>
            <a:ext cx="703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eterminants and consequences of LMX</a:t>
            </a:r>
            <a:br>
              <a:rPr sz="28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787400" y="1650600"/>
            <a:ext cx="680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eaders trained to develop favourable exchange relationships with their subordinates had subsequent gains in the performance and satisfaction of their sub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manager with a favourable exchange relationship with his or her boss is  more likely to establish favourable exchange relationships with sub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favourable relationship enables managers to obtain more benefits for subordinates and facilitate their performance by obtaining necessary resources, cutting red tape, and gaining approval of changes desired by sub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60480" y="542880"/>
            <a:ext cx="703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eterminants and consequences of LMX</a:t>
            </a:r>
            <a:br>
              <a:rPr sz="28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734840" y="1792440"/>
            <a:ext cx="692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In-group subordinate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are expected to work harder, to be more committed to task objectives, to be loyal to the leader, and to share some of the leader's administrative du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The lead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must provide attention to in-group subordinates, remaining responsive to their needs and feelings, and relying more on time-consuming influence methods such as persuasion and consult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Effective leader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should seek to establish a special exchange relationship with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all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ubordinates, not just with a few favouri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60480" y="542880"/>
            <a:ext cx="703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eterminants and consequences of LMX</a:t>
            </a:r>
            <a:br>
              <a:rPr sz="28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46360" y="752400"/>
            <a:ext cx="674208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pics in Leadership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843200" y="2009880"/>
            <a:ext cx="7138800" cy="37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rismatic/transformational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eam leadership, shared lead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-cultural leadership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&amp; implicit leadership theori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adershi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rvant leadership and business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757520" y="3100320"/>
            <a:ext cx="5995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144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nderstanding Leadership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78440" y="2664000"/>
            <a:ext cx="116388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2280" y="2664000"/>
            <a:ext cx="12031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tra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&amp;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38520" y="4135320"/>
            <a:ext cx="1616040" cy="755640"/>
          </a:xfrm>
          <a:prstGeom prst="rect">
            <a:avLst/>
          </a:prstGeom>
          <a:solidFill>
            <a:srgbClr val="d1cc00"/>
          </a:solidFill>
          <a:ln w="9360">
            <a:solidFill>
              <a:srgbClr val="d1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itu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6396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06920" y="3048120"/>
            <a:ext cx="12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9000" y="3510000"/>
            <a:ext cx="884160" cy="6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1280" y="2664000"/>
            <a:ext cx="11635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2280" y="2664000"/>
            <a:ext cx="12031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tra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&amp;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8940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2040" y="2664000"/>
            <a:ext cx="1094040" cy="75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Influ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96080" y="301320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895720" y="313056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38520" y="4135320"/>
            <a:ext cx="1616040" cy="755640"/>
          </a:xfrm>
          <a:prstGeom prst="rect">
            <a:avLst/>
          </a:prstGeom>
          <a:solidFill>
            <a:srgbClr val="d1cc00"/>
          </a:solidFill>
          <a:ln w="9360">
            <a:solidFill>
              <a:srgbClr val="d1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itu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7392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Foll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6396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9468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606920" y="3002040"/>
            <a:ext cx="254160" cy="96840"/>
            <a:chOff x="4606920" y="3002040"/>
            <a:chExt cx="254160" cy="96840"/>
          </a:xfrm>
        </p:grpSpPr>
        <p:sp>
          <p:nvSpPr>
            <p:cNvPr id="71" name=""/>
            <p:cNvSpPr/>
            <p:nvPr/>
          </p:nvSpPr>
          <p:spPr>
            <a:xfrm>
              <a:off x="460692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60692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811840" y="3002040"/>
            <a:ext cx="254160" cy="96840"/>
            <a:chOff x="5811840" y="3002040"/>
            <a:chExt cx="254160" cy="96840"/>
          </a:xfrm>
        </p:grpSpPr>
        <p:sp>
          <p:nvSpPr>
            <p:cNvPr id="74" name=""/>
            <p:cNvSpPr/>
            <p:nvPr/>
          </p:nvSpPr>
          <p:spPr>
            <a:xfrm>
              <a:off x="581184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81184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15636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70612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69000" y="3510000"/>
            <a:ext cx="884160" cy="6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180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nderstanding Leadership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1280" y="2664000"/>
            <a:ext cx="11635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2280" y="2664000"/>
            <a:ext cx="12031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tra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&amp;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8940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2040" y="2664000"/>
            <a:ext cx="1094040" cy="75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Influ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96080" y="301320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895720" y="313056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38520" y="4135320"/>
            <a:ext cx="1616040" cy="755640"/>
          </a:xfrm>
          <a:prstGeom prst="rect">
            <a:avLst/>
          </a:prstGeom>
          <a:solidFill>
            <a:srgbClr val="d1cc00"/>
          </a:solidFill>
          <a:ln w="9360">
            <a:solidFill>
              <a:srgbClr val="d1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itu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7392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Foll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6396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9468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06920" y="3002040"/>
            <a:ext cx="254160" cy="96840"/>
            <a:chOff x="4606920" y="3002040"/>
            <a:chExt cx="254160" cy="96840"/>
          </a:xfrm>
        </p:grpSpPr>
        <p:sp>
          <p:nvSpPr>
            <p:cNvPr id="93" name=""/>
            <p:cNvSpPr/>
            <p:nvPr/>
          </p:nvSpPr>
          <p:spPr>
            <a:xfrm>
              <a:off x="460692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60692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811840" y="3002040"/>
            <a:ext cx="254160" cy="96840"/>
            <a:chOff x="5811840" y="3002040"/>
            <a:chExt cx="254160" cy="96840"/>
          </a:xfrm>
        </p:grpSpPr>
        <p:sp>
          <p:nvSpPr>
            <p:cNvPr id="96" name=""/>
            <p:cNvSpPr/>
            <p:nvPr/>
          </p:nvSpPr>
          <p:spPr>
            <a:xfrm>
              <a:off x="581184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1184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15636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70612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69000" y="3510000"/>
            <a:ext cx="884160" cy="6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05720" y="1360440"/>
            <a:ext cx="113184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Degree of Infl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Unit’s/Org.’s </a:t>
            </a:r>
            <a:br>
              <a:rPr sz="1000"/>
            </a:b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. Promot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ollowers’ skill, satisfaction,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2760" y="1360440"/>
            <a:ext cx="12063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mmedi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sis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Goal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60600" y="1360440"/>
            <a:ext cx="131760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itiating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articip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haris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aissez f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47880" y="1360440"/>
            <a:ext cx="12891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elf-conf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tress 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tegrity/Hone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Need for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motional m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144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nderstanding Leadership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0144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nderstanding Leadership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1280" y="2664000"/>
            <a:ext cx="11635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62280" y="2664000"/>
            <a:ext cx="12031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tra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&amp;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8940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2040" y="2664000"/>
            <a:ext cx="1094040" cy="75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Influ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96080" y="301320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95720" y="313056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38520" y="4135320"/>
            <a:ext cx="1616040" cy="755640"/>
          </a:xfrm>
          <a:prstGeom prst="rect">
            <a:avLst/>
          </a:prstGeom>
          <a:solidFill>
            <a:srgbClr val="d1cc00"/>
          </a:solidFill>
          <a:ln w="9360">
            <a:solidFill>
              <a:srgbClr val="d1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itu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7392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Foll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6396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9468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06920" y="3002040"/>
            <a:ext cx="254160" cy="96840"/>
            <a:chOff x="4606920" y="3002040"/>
            <a:chExt cx="254160" cy="96840"/>
          </a:xfrm>
        </p:grpSpPr>
        <p:sp>
          <p:nvSpPr>
            <p:cNvPr id="120" name=""/>
            <p:cNvSpPr/>
            <p:nvPr/>
          </p:nvSpPr>
          <p:spPr>
            <a:xfrm>
              <a:off x="460692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0692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811840" y="3002040"/>
            <a:ext cx="254160" cy="96840"/>
            <a:chOff x="5811840" y="3002040"/>
            <a:chExt cx="254160" cy="96840"/>
          </a:xfrm>
        </p:grpSpPr>
        <p:sp>
          <p:nvSpPr>
            <p:cNvPr id="123" name=""/>
            <p:cNvSpPr/>
            <p:nvPr/>
          </p:nvSpPr>
          <p:spPr>
            <a:xfrm>
              <a:off x="581184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1184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15636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612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69000" y="3510000"/>
            <a:ext cx="884160" cy="6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05720" y="1360440"/>
            <a:ext cx="113184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Degree of Infl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Unit’s/Org.’s </a:t>
            </a:r>
            <a:br>
              <a:rPr sz="1000"/>
            </a:b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. Promot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ollowers’ skill, satisfaction,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62760" y="1360440"/>
            <a:ext cx="12063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mmedi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sis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Goal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60600" y="1360440"/>
            <a:ext cx="131760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itiating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articip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haris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aissez f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880" y="1360440"/>
            <a:ext cx="12891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elf-conf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tress 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tegrity/Hone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Need for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motional m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3440" y="4943520"/>
            <a:ext cx="184320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eader’s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ocio-demo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ducation /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Occupational soci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9520" y="4943520"/>
            <a:ext cx="184284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ollower’s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ocio-demo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ducation /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Occupational soci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2600" y="4943520"/>
            <a:ext cx="182592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Ta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Unit /Org. character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.g., organisational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84240" y="3627360"/>
            <a:ext cx="1379520" cy="1737360"/>
            <a:chOff x="984240" y="3627360"/>
            <a:chExt cx="1379520" cy="1737360"/>
          </a:xfrm>
        </p:grpSpPr>
        <p:sp>
          <p:nvSpPr>
            <p:cNvPr id="137" name=""/>
            <p:cNvSpPr/>
            <p:nvPr/>
          </p:nvSpPr>
          <p:spPr>
            <a:xfrm>
              <a:off x="984240" y="3830760"/>
              <a:ext cx="1319400" cy="153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Contingency</a:t>
              </a:r>
              <a:br>
                <a:rPr sz="1000"/>
              </a:b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Theorie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Fiedler’s LPC* Si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Situational Leadersh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House’s Path </a:t>
              </a:r>
              <a:br>
                <a:rPr sz="1000"/>
              </a:br>
              <a:r>
                <a:rPr b="1" lang="en-GB" sz="1000" spc="-1" strike="noStrike">
                  <a:solidFill>
                    <a:srgbClr val="b3011f"/>
                  </a:solidFill>
                  <a:latin typeface="Arial"/>
                </a:rPr>
                <a:t>Goal The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74840" y="3627360"/>
              <a:ext cx="88920" cy="171612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44640 h 1716120"/>
                <a:gd name="textAreaBottom" fmla="*/ 1671480 h 17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30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0144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nderstanding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1280" y="2664000"/>
            <a:ext cx="11635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62280" y="2664000"/>
            <a:ext cx="120312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tra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&amp;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8940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Le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2040" y="2664000"/>
            <a:ext cx="1094040" cy="75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Influ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96080" y="301320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95720" y="313056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8520" y="4135320"/>
            <a:ext cx="1616040" cy="755640"/>
          </a:xfrm>
          <a:prstGeom prst="rect">
            <a:avLst/>
          </a:prstGeom>
          <a:solidFill>
            <a:srgbClr val="d1cc00"/>
          </a:solidFill>
          <a:ln w="9360">
            <a:solidFill>
              <a:srgbClr val="d1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itu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3920" y="2664000"/>
            <a:ext cx="1222200" cy="757080"/>
          </a:xfrm>
          <a:prstGeom prst="rect">
            <a:avLst/>
          </a:prstGeom>
          <a:solidFill>
            <a:srgbClr val="d1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Foll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396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94680" y="30481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06920" y="3002040"/>
            <a:ext cx="254160" cy="96840"/>
            <a:chOff x="4606920" y="3002040"/>
            <a:chExt cx="254160" cy="96840"/>
          </a:xfrm>
        </p:grpSpPr>
        <p:sp>
          <p:nvSpPr>
            <p:cNvPr id="152" name=""/>
            <p:cNvSpPr/>
            <p:nvPr/>
          </p:nvSpPr>
          <p:spPr>
            <a:xfrm>
              <a:off x="460692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0692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811840" y="3002040"/>
            <a:ext cx="254160" cy="96840"/>
            <a:chOff x="5811840" y="3002040"/>
            <a:chExt cx="254160" cy="96840"/>
          </a:xfrm>
        </p:grpSpPr>
        <p:sp>
          <p:nvSpPr>
            <p:cNvPr id="155" name=""/>
            <p:cNvSpPr/>
            <p:nvPr/>
          </p:nvSpPr>
          <p:spPr>
            <a:xfrm>
              <a:off x="5811840" y="300204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11840" y="3098880"/>
              <a:ext cx="2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15636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706120" y="3506760"/>
            <a:ext cx="1827000" cy="1033560"/>
          </a:xfrm>
          <a:custGeom>
            <a:avLst/>
            <a:gdLst>
              <a:gd name="textAreaLeft" fmla="*/ 636480 w 1827000"/>
              <a:gd name="textAreaRight" fmla="*/ 1343880 w 1827000"/>
              <a:gd name="textAreaTop" fmla="*/ 720360 h 1033560"/>
              <a:gd name="textAreaBottom" fmla="*/ 760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0764"/>
                </a:moveTo>
                <a:lnTo>
                  <a:pt x="15052" y="20764"/>
                </a:lnTo>
                <a:lnTo>
                  <a:pt x="15052" y="7524"/>
                </a:lnTo>
                <a:lnTo>
                  <a:pt x="9340" y="7524"/>
                </a:lnTo>
                <a:lnTo>
                  <a:pt x="15470" y="0"/>
                </a:lnTo>
                <a:lnTo>
                  <a:pt x="21600" y="7524"/>
                </a:lnTo>
                <a:lnTo>
                  <a:pt x="15888" y="7524"/>
                </a:lnTo>
                <a:lnTo>
                  <a:pt x="15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69000" y="3510000"/>
            <a:ext cx="884160" cy="6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3011f"/>
          </a:solidFill>
          <a:ln w="9360">
            <a:solidFill>
              <a:srgbClr val="b30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05720" y="1360440"/>
            <a:ext cx="113184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Degree of Infl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Unit’s/Org.’s </a:t>
            </a:r>
            <a:br>
              <a:rPr sz="1000"/>
            </a:b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. Promot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ollowers’ skill, satisfaction,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62760" y="1360440"/>
            <a:ext cx="12063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mmedi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ersis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Goal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60600" y="1360440"/>
            <a:ext cx="131760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itiating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articip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haris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aissez f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47880" y="1360440"/>
            <a:ext cx="1289160" cy="12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elf-conf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tress 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tegrity/Hone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Need for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motional m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94400" y="1360440"/>
            <a:ext cx="122868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Leader-Member</a:t>
            </a:r>
            <a:br>
              <a:rPr sz="1000"/>
            </a:b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Relations (LM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Transform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Transac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Implicit Theories of Leadership </a:t>
            </a:r>
            <a:br>
              <a:rPr sz="1000"/>
            </a:b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3440" y="4943520"/>
            <a:ext cx="184320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Leader’s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ocio-demo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ducation /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Occupational soci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9520" y="4943520"/>
            <a:ext cx="184284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ollower’s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ocio-demo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ducation /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Occupational soci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3011f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2600" y="4943520"/>
            <a:ext cx="1825920" cy="1077120"/>
          </a:xfrm>
          <a:prstGeom prst="rect">
            <a:avLst/>
          </a:prstGeom>
          <a:solidFill>
            <a:srgbClr val="cdcdc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Ta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Unit /Org. character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.g., organisational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01440" y="333360"/>
            <a:ext cx="683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edler’s Contingency Model of Lead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44720" y="1197000"/>
            <a:ext cx="644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11320" y="1820880"/>
            <a:ext cx="5931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situational theory that focuses on the match between the leader’s predisposition or style and various characteristics of the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sitio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ask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Quality of leader-member re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hich determine the overall degree of control 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influence “given” to a leader. The higher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t is, the more “favourable” is the situatio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" y="2060640"/>
            <a:ext cx="1290960" cy="18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adership *</a:t>
            </a:r>
            <a:br>
              <a:rPr sz="1200"/>
            </a:b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eader-Follower</a:t>
            </a:r>
            <a:br>
              <a:rPr sz="1200"/>
            </a:b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L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Beyond LMX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46:27Z</dcterms:created>
  <dc:creator>basscp</dc:creator>
  <dc:description/>
  <dc:language>en-US</dc:language>
  <cp:lastModifiedBy>Aston Business School</cp:lastModifiedBy>
  <dcterms:modified xsi:type="dcterms:W3CDTF">2004-11-05T21:37:20Z</dcterms:modified>
  <cp:revision>66</cp:revision>
  <dc:subject/>
  <dc:title>Slide 1</dc:title>
</cp:coreProperties>
</file>